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600-6071-4632-933E-50802C50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BC9-91E5-4014-97A3-BD4863CC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535-BCB3-4D6A-BB22-37BF9093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5F3-E7E5-4F93-BF02-5724F19A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F83-815A-4AA4-A9FE-C1E23C3D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33D-B77E-43B9-8E69-C92CB002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941-F0B5-4BCD-814F-1BC5F68A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DF6-A3D0-4D15-813B-1E50B4D5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704-BD34-4B78-9FE7-E7307A5F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28A-9E5F-4019-91E5-69084426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0B8-D463-4A57-97BC-F2FE0F2F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F15-144F-47B3-93B7-6E72E473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20C7-CCAD-48AB-9C9F-EBD6919F7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H01691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2743200"/>
            <a:ext cx="3090600" cy="198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3048120"/>
            <a:ext cx="259092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tt LO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tective Pri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Discrétion en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actez-moi au 06-57-35-54-78 ou au 01-43-13-70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7432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6:36:37Z</dcterms:created>
  <dc:creator>Pavilion Notebook User</dc:creator>
  <dc:description/>
  <dc:language>en-US</dc:language>
  <cp:lastModifiedBy>austin powers</cp:lastModifiedBy>
  <dcterms:modified xsi:type="dcterms:W3CDTF">2002-05-27T20:40:22Z</dcterms:modified>
  <cp:revision>4</cp:revision>
  <dc:subject/>
  <dc:title>Présentation PowerPoint</dc:title>
</cp:coreProperties>
</file>